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BE4-C333-4F29-AD37-E471A8B0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9F4-F3AC-4FDE-A552-A69BCCE7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B12-DFD2-4512-B181-70D4535A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BD2-0C70-457E-9554-5D14B2CF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84A-3715-42FB-A3AF-2624F5E9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36B-9CD2-466D-80BD-DB52B95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A8E2-8DC6-4575-B7BF-0D46D76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3FD7-C741-40F9-BAF7-A1BB3486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1955-9B7B-436E-BE91-FAD13549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F8C2-B0F8-498F-BE4F-81433F01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5757-EFED-4702-B144-8C5FE85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6DC-1FB0-48B5-85DC-05B0DD0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7EE1-DA84-4CE1-8603-FCC7F8E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2D49-51E8-4A4A-B377-F55E62C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67CB-A24A-4C9B-9D69-5EFF909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1AF-40EE-40BA-978D-7081946B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05C0-3AA2-4D23-AD9A-F631FF50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47D9-AC98-465E-BA48-F8C6904B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1F2A-EF78-41D3-BE05-52A21D60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4312-E0B0-4F18-B132-75D2031A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DB4F-509A-4638-BBEA-74CCA5D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E18B-1DE2-496D-AC04-7DB55F69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D16-4DDE-42BC-82A1-958A5C4E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7E67-9619-4ABE-BCF9-FA2AB2D1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5AE5-DDDE-4ED6-B47E-07E050B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A53D-7B7D-4F84-8D27-3D2296C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AE77-867C-470A-BB7B-0F17AA1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6139-9B23-412E-9F56-1AD320AF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55A6-F64B-4CE0-9C98-2F5AC2A6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A870-BEEE-4BBB-BFEE-C6105145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AEAE-E3A9-42B8-A5AF-25F56317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5A68-6622-42E1-9977-20E6849D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6FC7-0702-43BC-B111-4D584217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280-3CD7-41E0-A248-30EDD5E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F2FD-97B2-49AA-828E-296407CE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FA9B-ED7C-46F5-8386-5BE6144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C5B3-558F-4236-B2DF-C65900FE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E830-080B-4D9A-8001-CB72CBFE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3406-7406-433A-B80D-46C6A86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BC30-6102-45E0-95BF-1F3CD40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6B99-3889-40FE-9369-173BBFC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B90B-C4C4-457B-BF5F-17D441F5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68A2D-056F-45A6-9EF3-AAA60287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E66F-842E-4699-ACE2-A53522E3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05E-518A-4CBF-A9F9-C1F99F6F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5797-FEAD-49A0-8733-6F21C1D1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025D5-67F4-4C17-A2F8-F2541F82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FDEE-68BC-45B4-B92F-1B7CC7F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238E-B771-4626-9A93-0FA9908F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986C-89A6-48C6-9606-CEDC2DAE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F61E5-9F4B-45B1-8D23-6A563EF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7DD5-25C4-42A0-8F13-97CC3AB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799B-7B21-410E-8B90-C7165EF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6521-6660-43B6-B6C0-02C6FEBA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2AA7-1921-4D51-9049-B99565D9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EB4-C541-4E59-B42D-1D5C5DCC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7D15-5488-4D3B-8D6B-C337360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0752-4FC9-4F2C-8C69-7D44FBC3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6BC83-D725-414F-A852-298446E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FE7B-9250-4F96-A245-E3DD585A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3C46-C860-41F6-B253-7EC3DAB7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6B8D-C96C-409E-AFE5-FAB2CFD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E2DE-1DD7-472D-90E8-E9D8DEB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DE4F-A1C6-4B29-BB3D-E42F5A1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ACFB1-F4FE-485C-96A5-706155B2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8E4A-0693-4FF3-B0E9-1B43B3C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378-CBD1-4F91-938D-59C2DD5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034B-49D4-4FDA-8A73-AC0DFDE9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C2C23-EF57-4699-8A37-C7529325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F4C1E-3738-4787-8371-4132D94F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1F2-E483-4ACC-89E2-08C0A11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E1C-5DF0-4CC6-A177-A01029F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D8D7-10BC-49FE-9046-C028A53DC8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78F-1FA3-4E43-91E2-AC60ED6EC8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4FF-F6A9-4FE4-A172-E66FF3D80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30A8-23F0-454A-9B69-7DA58E26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E5B-543F-4A1A-AE38-552570D76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9FE-238A-48D0-A50F-1557CCCAE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chnorati.com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meantforwork.mo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Tuesday, March 20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0932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Q’s ‘bout w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Blog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hort for “web log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site – easy to use, like writing an emai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ntries, or “posts” are made in journal style; chronological ord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commen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work / School websit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student blog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rofessional Reflective Blog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acher 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rofessional Reflective Journa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fferent levels of participation (Post, comment, read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, conversatio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Blog Resources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g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Edublog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lassblogmeist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s in the Classroom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heck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How can it be used in the classroom to learn 21st Century Literacy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gging – the basics of where and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room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community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al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web-based blog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rat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43440" y="3138480"/>
            <a:ext cx="12571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tique Olive"/>
              </a:rPr>
              <a:t>Blog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353040" y="3049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Blog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1143000"/>
            <a:ext cx="67057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Used in K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le 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s (individual and coll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pts for writing / story st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case exemplar work (writing and pi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2209320" y="121932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chool Community Blog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226224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mework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7abcd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8hij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.nbed.nb.c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leohayeshigh.nbed.nb.c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56160" y="304920"/>
            <a:ext cx="51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1318"/>
                </a:solidFill>
                <a:latin typeface="Arial"/>
              </a:rPr>
              <a:t>School Community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rofessional Blog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dub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vid Warlick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Utech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rl Fis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Whipp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ofessional 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rati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g “Search Eng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searches of blogs by content and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a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keywords added by author to assist search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chnorati.com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Technor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4267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textbooks still relev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you see a classroom without tex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would replace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ging Basic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per due March 29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3 (Pages 45-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ac A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9196" t="0" r="9196" b="4981"/>
          <a:stretch/>
        </p:blipFill>
        <p:spPr>
          <a:xfrm>
            <a:off x="1981080" y="1905120"/>
            <a:ext cx="5410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Embraced by Millenial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5880" y="2895480"/>
            <a:ext cx="2819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ySpa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icz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lickr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YouTub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11320" y="1295280"/>
            <a:ext cx="73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y have stories to t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3-20T00:27:14Z</dcterms:modified>
  <cp:revision>45</cp:revision>
  <dc:subject/>
  <dc:title>Welcome to  ED3862</dc:title>
</cp:coreProperties>
</file>